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CC4-9123-4612-86F1-6388E245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FEB-27A2-43A4-9B23-2FE5177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57F-FF05-48E3-B7C8-507A554B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B9C-5F4F-40A9-8634-035943C2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2B24-054A-4956-9410-C0A7AA41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C31-1E0E-4C05-886C-F5316E58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0E1-F2C4-4FE1-B7EA-4EFE0CDB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1116-E7AC-45B0-BFA0-EF5E3962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65AC-415A-43F0-85A5-C968CC8E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0E37-6C3A-4D18-BD80-0195F3C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C3AB-8EF4-440C-B83E-5B43FA5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2F6-2BC3-4B26-940F-1F6EDE2D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6B6F-4BF4-4239-90B0-49C1E21A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FED2-F3E6-4F42-A7FC-D71AD311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9FC2-01E7-4DCF-9D99-F908009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51AA-F8A0-400F-9E77-204E9D17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0D1B-2FE2-47C0-BAA6-B687C66A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B136-D684-4FC3-A52B-5B5BBB8E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19CC-2398-4E07-B978-53C983E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6202-AEE4-4E5D-A2CA-A81F9DA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EC50-ED55-4052-BFC1-653B70D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0B95-B015-4020-B47C-A111EF3E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0C0-BD6E-4573-8BCA-D4D99D6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76D6-A293-4125-9A5C-AFCA015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85B3-DD6D-4685-B0FC-B783D85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D507-C248-4BBD-8EB1-FFF32FD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5D21-9BFA-4029-83FA-1CB78D2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07AB-4D8A-4E1E-ACF2-296285D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5A01B-68E8-4318-8475-F9F9E783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C7DF-14AF-4F79-8435-5A2C5D7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2133-76CA-49DB-B054-23265C0A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36D0-7BE7-4FAC-AD48-0114023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8802-1766-4787-B3B9-28757DB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F4B-36EC-4C01-BED9-26204FFF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86D8-25B0-438F-815A-823A9CF3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4FD5-DD6E-4D2B-9835-51E98AB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F321-0F18-45AB-9E03-38F935C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030E-059B-43DB-93E6-4CC6F49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2D6D-98F9-4A58-8333-5B067F8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F695-C0E7-416A-B309-9905F2B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96AF-7E41-4010-84D8-FDDF3042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16FB-B0FD-400C-A2DA-35413135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1874-C21F-4399-A8DA-BB1B2F97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5D48-9806-4180-8E67-A871A86C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D2A-844C-4750-9B8C-A39E05B1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45D0-3B79-4A04-83D8-EBC3D11F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2CC0-A9ED-42B2-81EC-0ECBA85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B235-DBB6-4A50-B256-00814EF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3FC97-0506-4259-80FB-B9B58F7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6513-0F99-40AA-A686-AC75F242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4688-35B5-455D-B51B-48F59BF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1D1B-6203-406A-86A1-04203A0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4EB9-58BA-4930-9B70-AACAFBE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7FC6-B66C-4BC7-A7BE-F0D455E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5864-031F-4109-A6B7-F26FEC55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A5A-C02D-47D2-8DEB-2AB51483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6A405-FD7C-4661-B00A-4E1E1A44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2B38-C366-4BA9-A09E-3ED4532E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E70C3-7D0E-469A-B595-F02027B6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EFE24-122E-48C4-8086-B8EFA00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418E-37AF-49DE-A8D8-5753D27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A46A9-EAEC-4494-A5B2-67E7B98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3B13-4C55-4984-AB2F-8840C22A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502A4-A406-4DB0-95BB-1EBD1B7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BFF82-9447-4231-8AEB-E5F2318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BEA4-3E59-4E8C-AE2F-EB4426D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DA6-9FFE-47B2-B390-130CEF0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AE443-8BB1-4FEB-B291-C5D382DF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2B50-BF1F-4F34-8568-5F595E59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4B637-7004-452C-B50C-48A69C51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BC2BF-0DE7-42EB-AABE-BCBE78E0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55DE7-B5E2-4351-8377-7D5CF3D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BCBA-9C52-4E25-9810-7F0B9BF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49D8-B6C6-455C-A83F-51FE9D6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05FF-A267-4120-A8B3-D96B90A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9A88-0492-4BEA-8758-A9F92179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EFBC-10C7-41AF-B6C1-C8C7B99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9E4-5BCD-441B-9D81-08805F6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ECCA3-3738-4A51-B3E5-52F12AB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FFC0-9DA0-4B95-BDF4-1A45A74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D4D9-D304-4D99-95F6-654561D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1E452-B43E-4E43-BC0D-AF3C4709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FDA2-17E0-4EF8-81C0-398890C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C33-DBFF-434E-81EF-6ED6027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Варжеляй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9 месяцев 2024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9 месяцев 2024 года подготовлено  на основании Постановления Администрации Варжеляйского сельского поселения №   от   .10.2024г.  «Об исполнении бюджета Варжеляйского сельского поселения за 9 месяцев 2024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 9 МЕСЯЦЕВ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ВАРЖЕЛЯЙСКОГО СЕЛЬСКОГО ПОСЕЛЕНИЯ ТОРБЕЕВСКОГО МУНИЦИПАЛЬНОГО РАЙОНА РЕСПУБЛИКИ МОРДОВИЯ 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9 МЕСЯЦЕ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4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Объект 2"/>
          <p:cNvGraphicFramePr/>
          <p:nvPr/>
        </p:nvGraphicFramePr>
        <p:xfrm>
          <a:off x="2556000" y="1989000"/>
          <a:ext cx="463860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89000"/>
                    <a:ext cx="463860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250920" y="2290680"/>
          <a:ext cx="8569080" cy="4114800"/>
        </p:xfrm>
        <a:graphic>
          <a:graphicData uri="http://schemas.openxmlformats.org/drawingml/2006/table">
            <a:tbl>
              <a:tblPr/>
              <a:tblGrid>
                <a:gridCol w="4321080"/>
                <a:gridCol w="1512720"/>
                <a:gridCol w="129564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7" name="Rectangle 24"/>
          <p:cNvSpPr/>
          <p:nvPr/>
        </p:nvSpPr>
        <p:spPr>
          <a:xfrm>
            <a:off x="1193760" y="391320"/>
            <a:ext cx="69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ВАРЖЕЛЯ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9 МЕСЯЦЕВ 20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3"/>
          <p:cNvSpPr/>
          <p:nvPr/>
        </p:nvSpPr>
        <p:spPr>
          <a:xfrm>
            <a:off x="49320" y="575640"/>
            <a:ext cx="90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ВАРЖЕЛЯЙ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14280" y="2141640"/>
          <a:ext cx="8569440" cy="326376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3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067280"/>
                <a:gridCol w="496872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Варжеляйского сельского посе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сонова Нина Никола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6, Республика Мордовия, Торбеевский район, с. Варжеляй, ул. 2-я Советская, д.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87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2016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4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5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Варжеляй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 1</cp:lastModifiedBy>
  <cp:lastPrinted>2015-12-24T07:26:25Z</cp:lastPrinted>
  <dcterms:modified xsi:type="dcterms:W3CDTF">2024-10-22T13:49:40Z</dcterms:modified>
  <cp:revision>647</cp:revision>
  <dc:subject/>
  <dc:title>ИЖМОРСКИЙ МУНИЦИПАЛЬНЫЙ РАЙОН</dc:title>
</cp:coreProperties>
</file>