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85B-FE0A-461B-AD84-92B6E1E1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FF6-EA9F-4A8E-85BC-AE50F631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34D-BAA2-4B95-BE63-20700817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8F6-9AD0-4D35-B8A5-3CD58F57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3B41-A9F3-4ABD-8101-CE20FDFD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2FB7-269F-455A-88D1-996C4AEE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1605-6DA8-4345-9250-E24C181E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825C-F6B5-4583-88EF-46C27ACB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498D-4FC2-4F24-8954-438445AE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FF0C-AC00-4B47-858C-801B0CDD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3769-59C9-46B8-9030-BF06817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144-F056-4D2F-94A7-879C2C2D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73E0-92CF-4C62-B805-B3438F46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C043-91C7-4A4F-8C67-2022097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23D8-56D8-49F5-915E-8E99012D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24D8-66E0-4714-B406-1D7DA999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C596-6AB5-4602-A151-3ED0B14D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DDA1-9EAE-4A41-A657-6A362D23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1EFC-3929-4761-8159-CD579056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0131-9AB2-4607-889E-F03137AC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1DB7-8D25-4199-BF65-2327CE84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5B62-9128-43BA-BF11-D4AFE4BF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E85-4FF4-41BF-9C88-10E6CE66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4AA3-025E-4CDB-B459-C64DC80D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86891-4FF2-474A-A27D-515E9FB0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EDB0-F2CD-4868-8936-040D3F6C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9CFA-518C-47B3-8B91-8C9AA7D0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8AE2-422B-4248-B467-616B4AD8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486A-D6F7-4C02-ADA1-E316B8A2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7E3B-26E5-4C41-9250-FC86A17B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5276-CEE6-4242-A34D-5D705DDC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9C73-C340-44ED-8532-A4150DD9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2C745-9A0E-4556-B8F8-91FB49A0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E98-2B70-420B-BD88-E5FE64C4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83F4A-CB2C-4471-A836-77EBAB44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8FB4-8CFD-4A17-BD1D-B56B941A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A9FB-CECC-4FD3-A220-7F2C3F0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A179E-879E-47D9-BC45-B674D8E8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1379F-809A-4AEC-B4BD-255414C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EB57-3DEF-48C7-820B-B5ABC955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E22E-29E5-4340-A261-6D89A5DF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65AC6-D209-40C2-8299-8DEEFA5D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CE9B-84BE-49B4-92FB-311AEE0F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E326B-500B-476B-8B7A-971C8EF8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44E-6963-44C9-ACCA-AE069247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C4DFC-978B-457A-B17C-89645376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ADF9A-E99C-46DA-84E5-24E579F3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5525-9A9C-4A29-A70A-8F459CD2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5ADF-E326-4C73-A23F-292A3131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A0225-DE9A-413E-A1F9-66ACDA3B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7D6EC-ADE5-4BA8-92C1-23D2087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CC5BF-CE1F-4520-BFD4-B68EBD6A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5A969-B715-4AEA-9848-70613E6C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C7E7-E1BD-411C-A043-63D066F2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66C1A-6F1A-4845-B772-698D2444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BDE-A079-49A4-BC77-E51D7782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79FD4-BCB3-4286-B3DC-E0E4409D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14B5-E36C-4A1E-95EC-A3D6A254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6EA4C-CCD2-491C-879B-AD1DA96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D178D-9ED2-4F74-8BD5-013AA0BF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446A8-1F17-41C6-978F-5AA9C260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EDEEF-DD02-4B79-862D-81A50237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5F966-F392-4574-B268-9F67D5B4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BBAB4-4A02-4BD0-B9B9-CB1DF5D3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47018-CDBC-41BF-9C60-05329C2C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EB3E2-753E-4F58-9463-279AE575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7C9-62B8-443E-8DED-019222EC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FB982-1F4F-4F52-A6AA-ED08EA95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F3714-346E-480A-9BAC-B633886D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A9AF6-EC91-4223-AD79-1A15E65B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18FA3-5B72-437B-BD53-44D0DFDC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78952-36AE-4308-9766-5C2BC4F1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D305-B26D-43CD-BC0B-78D76E01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138E1-F0BF-4D80-82F8-D39BD7E8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6D900-7439-4CCD-AE24-4440BAB6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606C3-574A-4DE7-9958-9995254F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F62D8-1022-469A-827A-2063FD6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3B1-69D5-4577-83B7-FACF8B70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9B7ED-093E-46EB-84F0-1A75FFE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78CF5-E74C-49B5-99DA-24C9E704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836E1-6D1E-46CA-BCFE-7BA96549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56A4A-7045-4324-9B7F-F5333F98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E65B6-2D2A-415A-8940-2CD47B14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40D-1BAF-4C94-93FB-69C175DE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Варжеляй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1 полугодие 2024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Исполнение бюджета  для граждан за 1 полугодие 2024 года подготовлено  на основании Постановления Администрации Варжеляйского сельского поселения №43 от 24.07.2024г.  «Об исполнении бюджета Варжеляйского сельского поселения за 1 полугодие 2024 года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ЧЕТ ОБ ИСПОЛНЕНИИ БЮДЖЕТ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ИСПОЛНЕНИЯ БЮДЖЕТА ПОСЕЛЕНИЯ ЗА 1 ПОЛУГОДИЕ 202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4464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ИСПОЛНЕНИЯ БЮДЖЕТА ВАРЖЕЛЯЙСКОГО СЕЛЬСКОГО ПОСЕЛЕНИЯ ТОРБЕЕВСКОГО МУНИЦИПАЛЬНОГО РАЙОНА РЕСПУБЛИКИ МОРДОВИЯ З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 ПОЛУГОД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4 ГОДА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Объект 2"/>
          <p:cNvGraphicFramePr/>
          <p:nvPr/>
        </p:nvGraphicFramePr>
        <p:xfrm>
          <a:off x="2556000" y="1989000"/>
          <a:ext cx="463860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89000"/>
                    <a:ext cx="463860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250920" y="2290680"/>
          <a:ext cx="8569080" cy="4114800"/>
        </p:xfrm>
        <a:graphic>
          <a:graphicData uri="http://schemas.openxmlformats.org/drawingml/2006/table">
            <a:tbl>
              <a:tblPr/>
              <a:tblGrid>
                <a:gridCol w="4321080"/>
                <a:gridCol w="1512720"/>
                <a:gridCol w="1295640"/>
                <a:gridCol w="143964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7" name="Rectangle 24"/>
          <p:cNvSpPr/>
          <p:nvPr/>
        </p:nvSpPr>
        <p:spPr>
          <a:xfrm>
            <a:off x="1193760" y="391320"/>
            <a:ext cx="69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ВАРЖЕЛЯ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ЗА 1 ПОЛУГОДИЕ 20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6804000" y="1920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3"/>
          <p:cNvSpPr/>
          <p:nvPr/>
        </p:nvSpPr>
        <p:spPr>
          <a:xfrm>
            <a:off x="49320" y="575640"/>
            <a:ext cx="90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ВАРЖЕЛЯЙ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14280" y="2141640"/>
          <a:ext cx="8569440" cy="326376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3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067280"/>
                <a:gridCol w="496872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Варжеляйского сельского посел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сонова Нина Никола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6, Республика Мордовия, Торбеевский район, с. Варжеляй, ул. 2-я Советская, д. 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87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2016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4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5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Варжеляй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1 1</cp:lastModifiedBy>
  <cp:lastPrinted>2015-12-24T07:26:25Z</cp:lastPrinted>
  <dcterms:modified xsi:type="dcterms:W3CDTF">2024-07-29T11:22:53Z</dcterms:modified>
  <cp:revision>646</cp:revision>
  <dc:subject/>
  <dc:title>ИЖМОРСКИЙ МУНИЦИПАЛЬНЫЙ РАЙОН</dc:title>
</cp:coreProperties>
</file>